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735-862A-4B77-B07F-451163BC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9DC-65C6-453D-8941-1AB852B2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F7B-2837-4882-A621-B5D02FF6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ABE-65DE-4AAA-8EF4-2A6D4A86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744-F0D3-4A67-A31A-573A49EC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29D-BDA6-402D-A425-F4F16DBB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C0B-225F-4829-AEDE-6B2FA044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A50-0A45-4D29-97B8-46A0BEDF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647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CE29-5D90-4C85-96AB-0B6D14EE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8C6-AFF2-43CE-825D-59CD4975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1F7-EA18-428E-A9AD-F4268894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B66-2812-49CF-A8D9-2BC319B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D7B7-F691-4782-B524-0F55C6865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92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ristina"/>
              </a:rPr>
              <a:t>Persuasion, Social Influence, and Compliance Gai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2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205200"/>
            <a:ext cx="82296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hat are some other words for persuasion? Name at least thr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 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l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05200"/>
            <a:ext cx="82296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Draw the preliminary model of persuasion and discuss the differences between its pa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ure persuas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ear cut cases of persuasion (e.g., TV ad, debate, edito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rderline persua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ases that are “on the line” in terms of persuasion (e.g., non-verbal behav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1905120"/>
            <a:ext cx="3276720" cy="32763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2666880"/>
            <a:ext cx="1828800" cy="1828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54476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There are five basic criteria for limiting what persuasion is.  These are intentionality, effects, degree of free choice or free will, symbolic action, and interpersonal vs. intrapersonal.   Describe each criter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the persuasion involves a conscious effort at influencing the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ersuasion has taken place in the absence of someone being persu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free choice or fre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ersuasion is coercive or non-coerc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ic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to which persuasion is 1-channel symbolic expression (language, tex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ersonal vs. intra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to which persuasion is 1 versus 2 or more people (or 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Diagram and explain the enhanced model of persua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limiting criterion to elaborate on the preliminary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48765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21472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The chapter discussed three types of goals as a contextual factor in persuasion.  They are self-presentational goals, relational goals, and instrumental goals.   Describe each and their connection to pure persuasion and/or borderline persua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resent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dent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ed to borderline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what people want out of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ed to borderline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lated to pure persu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21472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Other contextual factors discussed in the chapter are number of communicators, synchronous/asynchronous, ratio of verbal/non-verbal, mediation, and sociocultural factors.  Pick one and explain the constraints it has on the options available to persuad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mmun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(real time) versus asynchronous (back and fo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verbal to non-verbal cues (e.g., words versus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ed (computers, TV) versus unmediated (face to f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-directed versus not (all communication has some go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21472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 Gass and Seiter (1999) state that “[o]ur position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most, or all, human communication is just persuasion.”  Explain what the authors mean by this statement, including examples of human communication and its study to support your answ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ly all human communication is potentially persuasion, but not all of it is persua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 depends on the degree of persuasive ingredients in the message (e.g., limiting cri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tinuum of persuasion could be shown b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-&gt; borderline -&gt; pure persu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20996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 Petty and Caciopp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aboration Likelihood Model of Persua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lates two routes to persuasion that operate in tandem.  Explain how this model 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ro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cognitive elaboration, or thinking about and analyzing the content of a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ro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focusing on cues not directly relevant to the substance of the message (e.g., catchy jingle, attractiveness of sou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9:48:00Z</dcterms:created>
  <dc:creator>nuhs</dc:creator>
  <dc:description/>
  <dc:language>en-US</dc:language>
  <cp:lastModifiedBy>nuhs</cp:lastModifiedBy>
  <dcterms:modified xsi:type="dcterms:W3CDTF">2007-09-21T17:10:23Z</dcterms:modified>
  <cp:revision>6</cp:revision>
  <dc:subject/>
  <dc:title>Persuasion, Social Influence, and Compliance Gaining</dc:title>
</cp:coreProperties>
</file>